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C66-37B7-4BE7-9E9F-3A6832CA57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BBF-DFDB-4870-BCCA-EDA591566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21B-4E8B-49CE-8596-8682FBE6EA2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929-8D1F-4E1E-B40F-C7791BC5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6BC-A08E-4551-A005-2813F197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55E-030D-4495-B043-1EE3B48B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787-848A-41DA-A4D0-B1FDBA5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9F0-6AC8-4F0A-BCB2-A8AAA798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9709-F653-453B-8053-2B584DC2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843-5EAC-4ECE-84DD-D1D1FF0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B25-9FD1-44FB-9CD6-2E09C720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E15-9B09-489D-A072-C0CDDF38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699-2E36-434E-93E2-19176723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624-E8C2-4123-9A88-E6BBEE0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24B-301B-4377-9551-CB1CF3F5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968-38F7-4BE3-9103-8990802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E5F-8172-4ABB-A623-5D0AD39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223-EC14-47C7-85B5-35E1B03B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FC5F-B52C-428E-ABE8-2634FD0D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C93E-1879-4273-A0E2-74F38CC1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4BB-E1E9-45E3-A456-A68F9CF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E0-52D7-493A-85DA-2A12766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5FA-1C59-464B-B3C2-ACE7E65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9A1-EA57-4DB7-B2BA-5F364A6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AC-008B-4CB0-BA84-E0D2E06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1B6-EE96-41FB-A701-6868B01F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78F-26C0-49C7-A7EB-1ED08E8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4E8-F67C-44A4-8625-DD2BB44AE0ED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544-13BB-462F-8040-F1E5A36E29A9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Environmental chemistry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b5249"/>
                </a:solidFill>
                <a:latin typeface="Times New Roman"/>
              </a:rPr>
              <a:t>E. 9 Ozon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083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zone in October in Antarctic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Greater ozone depletion polar regions</a:t>
            </a:r>
            <a:r>
              <a:rPr b="1" lang="en-GB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76520"/>
            <a:ext cx="91440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very cold winter temperatures over the polar regio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ce crystal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form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in the stratosphere and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ct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as heterogeneous </a:t>
            </a:r>
            <a:r>
              <a:rPr b="1" lang="en-GB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catalysts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for reactions which produce chlorine oxides (e.g. HOCl)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from CFC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during winter time a huge reservoir of HOCl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 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molecules builds up until spring arriv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spring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brings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UV light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hich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cause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chlorine free radicals to split from the HOCl or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molecu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greater catalytic depletion of the ozone in the polar regions.  UV also melts the ice crystals and stops the formation of HOCl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slowing down this proces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Ozone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1016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xplain the dependence of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and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dissociation on the wavelength of ligh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2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scribe the mechanism in the catalysis of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depletion by CFCs and NO</a:t>
            </a:r>
            <a:r>
              <a:rPr b="0" i="1" lang="en-US" sz="3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2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Outline the reasons for greater ozone depletion in polar regions.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8080"/>
            <a:ext cx="8370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2a3d7a"/>
                </a:solidFill>
                <a:latin typeface="Times New Roman"/>
              </a:rPr>
              <a:t>http://www.theozonehole.com/</a:t>
            </a:r>
            <a:endParaRPr b="0" lang="en-US" sz="1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Picture 6" descr="http://www.theozonehole.com/uvrayjp.gif"/>
          <p:cNvPicPr/>
          <p:nvPr/>
        </p:nvPicPr>
        <p:blipFill>
          <a:blip r:embed="rId1"/>
          <a:stretch/>
        </p:blipFill>
        <p:spPr>
          <a:xfrm>
            <a:off x="468360" y="1700280"/>
            <a:ext cx="849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hotodissoci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photodissociation of  O</a:t>
            </a:r>
            <a:r>
              <a:rPr b="1" lang="en-GB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174760"/>
          <a:ext cx="4040280" cy="4386240"/>
        </p:xfrm>
        <a:graphic>
          <a:graphicData uri="http://schemas.openxmlformats.org/drawingml/2006/table">
            <a:tbl>
              <a:tblPr/>
              <a:tblGrid>
                <a:gridCol w="1676520"/>
                <a:gridCol w="2363760"/>
              </a:tblGrid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uv    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UV wavelength,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nm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shorter than) 24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3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requency, </a:t>
                      </a:r>
                      <a:r>
                        <a:rPr b="0" i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higher energy radiation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 = c /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.0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/242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  1.24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74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bond enthalpy,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kJ mol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49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74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ovalent bond typ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ne 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+  one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bon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bond order = 2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118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photodissociation of O</a:t>
            </a:r>
            <a:r>
              <a:rPr b="1" lang="en-GB" sz="24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3280" y="1916280"/>
          <a:ext cx="4248360" cy="4643280"/>
        </p:xfrm>
        <a:graphic>
          <a:graphicData uri="http://schemas.openxmlformats.org/drawingml/2006/table">
            <a:tbl>
              <a:tblPr/>
              <a:tblGrid>
                <a:gridCol w="2124360"/>
                <a:gridCol w="2124000"/>
              </a:tblGrid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uv    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 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UV wavelength,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nm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shorter than 33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requency, </a:t>
                      </a:r>
                      <a:r>
                        <a:rPr b="0" i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 = c /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.0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/33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9.10 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bond enthalpy,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kJ mol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ovalent bond typ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ne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+  2 delocalized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electrons between a double and single bond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bond order 1.5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09480"/>
            <a:ext cx="7913520" cy="8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ample calcu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484280"/>
          <a:ext cx="8442360" cy="5068800"/>
        </p:xfrm>
        <a:graphic>
          <a:graphicData uri="http://schemas.openxmlformats.org/drawingml/2006/table">
            <a:tbl>
              <a:tblPr/>
              <a:tblGrid>
                <a:gridCol w="8442360"/>
              </a:tblGrid>
              <a:tr h="108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Calculation of wavelength of one photon to dissociate O</a:t>
                      </a:r>
                      <a:r>
                        <a:rPr b="1" lang="en-GB" sz="2800" spc="-1" strike="noStrike" baseline="-25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2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when the bond enthalpy is 498 kJ mol</a:t>
                      </a:r>
                      <a:r>
                        <a:rPr b="1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398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of one photon is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498 000 J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/6.02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23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= 8.27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J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f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and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f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= c 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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 c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 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 c / 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(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34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J s  x  3.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8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m s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) /8.27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J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2.41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7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m =  241  nm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ample calcu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628640"/>
          <a:ext cx="8443800" cy="4888080"/>
        </p:xfrm>
        <a:graphic>
          <a:graphicData uri="http://schemas.openxmlformats.org/drawingml/2006/table">
            <a:tbl>
              <a:tblPr/>
              <a:tblGrid>
                <a:gridCol w="8443800"/>
              </a:tblGrid>
              <a:tr h="10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alculation of bond enthalpy in kJ mol</a:t>
                      </a:r>
                      <a:r>
                        <a:rPr b="1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for ozone when a wavelength of 300 nm is neede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38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h c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(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34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J s  x  3.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m s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) /3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J (one photon/one bond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or 1 mole of bonds: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J   x  6.02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99126 J mol 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= 399 kJ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CF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2514600"/>
          <a:ext cx="8151840" cy="305748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11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CCl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CClF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+  Cl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>
                      <a:noFill/>
                    </a:lnB>
                    <a:solidFill>
                      <a:srgbClr val="f5f9fc"/>
                    </a:solidFill>
                  </a:tcPr>
                </a:tc>
              </a:tr>
              <a:tr h="118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 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Cl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2fa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O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       2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by NO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2637000"/>
          <a:ext cx="8078760" cy="2606400"/>
        </p:xfrm>
        <a:graphic>
          <a:graphicData uri="http://schemas.openxmlformats.org/drawingml/2006/table">
            <a:tbl>
              <a:tblPr/>
              <a:tblGrid>
                <a:gridCol w="8078760"/>
              </a:tblGrid>
              <a:tr h="1186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N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N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20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O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       2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by NO</a:t>
            </a:r>
            <a:r>
              <a:rPr b="1" lang="en-US" sz="4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101320"/>
            <a:ext cx="837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N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NO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+     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NO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3  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   N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N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+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  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  NO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Net: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O  +     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3   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   2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9:46:34Z</dcterms:created>
  <dc:creator>nvandecasteele</dc:creator>
  <dc:description/>
  <dc:language>en-US</dc:language>
  <cp:lastModifiedBy>Nico Van De Casteele</cp:lastModifiedBy>
  <dcterms:modified xsi:type="dcterms:W3CDTF">2015-03-14T00:45:47Z</dcterms:modified>
  <cp:revision>43</cp:revision>
  <dc:subject/>
  <dc:title>Environmental Chemistry part 4</dc:title>
</cp:coreProperties>
</file>